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09E-22D5-480D-8CF7-B4718A67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04D-975D-459C-A178-9A110B22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8F8-7274-4874-B65D-D0FC766D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07C-A30E-44E1-8322-B56B64A5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EB3-4543-4360-A3B5-D730AD64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1E3-45BD-438E-9A99-5EA27FC6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8E0-55C9-4110-9534-369CA95E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C4D-C4D3-4D41-B42B-8499B784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327-5A07-4693-BFA3-7D6818EC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A45-3248-4481-8DDC-62F2C68E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9C3-B65C-4E5D-B31B-B689A086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AF9-F9CF-46B8-9086-C808FEB4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D0B7-1434-4B44-9CE5-A0B83DF77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ondensati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unoff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epage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evaporati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cipitati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oot uptake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ranspir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643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55800" y="990720"/>
            <a:ext cx="6129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62120" y="1479600"/>
            <a:ext cx="73263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0:55Z</dcterms:created>
  <dc:creator>MVanElli</dc:creator>
  <dc:description/>
  <dc:language>en-US</dc:language>
  <cp:lastModifiedBy>Preferred Customer</cp:lastModifiedBy>
  <dcterms:modified xsi:type="dcterms:W3CDTF">2010-12-01T02:53:40Z</dcterms:modified>
  <cp:revision>3</cp:revision>
  <dc:subject/>
  <dc:title>Condensation runoff  seepage evaporation  precipitation root uptake transpiration</dc:title>
</cp:coreProperties>
</file>